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0A3-3A5B-422E-B632-612F6E04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248-42FB-4F09-B08B-321C57C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6F4-4E77-4210-9E60-1E82A715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AEF-563A-4C26-BE51-B154E075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68C-10D2-448D-B422-50B4447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7E5-03F3-4EA1-9A21-BD79E81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06F-9CA4-41D5-9DDB-249786BA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23A-7C1E-4C9A-B337-2BD0805A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067-5975-4CA0-9F55-923081AE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1D2-2617-4F12-BFB3-BEC27F1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368-82D7-4EF2-87B5-057453C4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30D-EDD9-474C-BB77-24A7BBBD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A819-D2AD-4980-BC58-36A0D2FD07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FAD-5FE1-48ED-BAA1-16E9FFD0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4"/>
          <p:cNvSpPr/>
          <p:nvPr/>
        </p:nvSpPr>
        <p:spPr>
          <a:xfrm>
            <a:off x="-20520" y="1509840"/>
            <a:ext cx="914400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5"/>
          <p:cNvGrpSpPr/>
          <p:nvPr/>
        </p:nvGrpSpPr>
        <p:grpSpPr>
          <a:xfrm>
            <a:off x="65160" y="1523520"/>
            <a:ext cx="3888720" cy="5129280"/>
            <a:chOff x="65160" y="1523520"/>
            <a:chExt cx="3888720" cy="5129280"/>
          </a:xfrm>
        </p:grpSpPr>
        <p:sp>
          <p:nvSpPr>
            <p:cNvPr id="51" name="Text Box 43"/>
            <p:cNvSpPr/>
            <p:nvPr/>
          </p:nvSpPr>
          <p:spPr>
            <a:xfrm>
              <a:off x="2406960" y="1558800"/>
              <a:ext cx="8863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36"/>
            <p:cNvGrpSpPr/>
            <p:nvPr/>
          </p:nvGrpSpPr>
          <p:grpSpPr>
            <a:xfrm>
              <a:off x="65160" y="1523520"/>
              <a:ext cx="3888720" cy="5129280"/>
              <a:chOff x="65160" y="1523520"/>
              <a:chExt cx="3888720" cy="5129280"/>
            </a:xfrm>
          </p:grpSpPr>
          <p:sp>
            <p:nvSpPr>
              <p:cNvPr id="53" name="Rectangle 42"/>
              <p:cNvSpPr/>
              <p:nvPr/>
            </p:nvSpPr>
            <p:spPr>
              <a:xfrm>
                <a:off x="65160" y="1845720"/>
                <a:ext cx="2807280" cy="4807080"/>
              </a:xfrm>
              <a:prstGeom prst="rect">
                <a:avLst/>
              </a:prstGeom>
              <a:solidFill>
                <a:srgbClr val="0080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41"/>
              <p:cNvSpPr/>
              <p:nvPr/>
            </p:nvSpPr>
            <p:spPr>
              <a:xfrm>
                <a:off x="321480" y="2057400"/>
                <a:ext cx="228600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vidence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liable, Relevant, Timely, and Accessibl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40"/>
              <p:cNvSpPr/>
              <p:nvPr/>
            </p:nvSpPr>
            <p:spPr>
              <a:xfrm>
                <a:off x="2360160" y="4132080"/>
                <a:ext cx="95760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9"/>
              <p:cNvSpPr/>
              <p:nvPr/>
            </p:nvSpPr>
            <p:spPr>
              <a:xfrm>
                <a:off x="2403360" y="3263760"/>
                <a:ext cx="125748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38"/>
              <p:cNvSpPr/>
              <p:nvPr/>
            </p:nvSpPr>
            <p:spPr>
              <a:xfrm flipH="1" rot="21574800">
                <a:off x="1231560" y="1533240"/>
                <a:ext cx="2719800" cy="487440"/>
              </a:xfrm>
              <a:custGeom>
                <a:avLst/>
                <a:gdLst>
                  <a:gd name="textAreaLeft" fmla="*/ 489600 w 2719800"/>
                  <a:gd name="textAreaRight" fmla="*/ 1845360 w 2719800"/>
                  <a:gd name="textAreaTop" fmla="*/ 65160 h 487440"/>
                  <a:gd name="textAreaBottom" fmla="*/ 422280 h 48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785" hR="21600" stAng="10800000" swAng="5400000"/>
                    <a:lnTo>
                      <a:pt x="10767" y="0"/>
                    </a:lnTo>
                    <a:arcTo wR="7785" hR="21600" stAng="-5400000" swAng="3159693"/>
                    <a:lnTo>
                      <a:pt x="21321" y="15874"/>
                    </a:lnTo>
                    <a:lnTo>
                      <a:pt x="17060" y="21600"/>
                    </a:lnTo>
                    <a:lnTo>
                      <a:pt x="12241" y="15874"/>
                    </a:lnTo>
                    <a:lnTo>
                      <a:pt x="15290" y="15874"/>
                    </a:lnTo>
                    <a:arcTo wR="7785" hR="21600" stAng="-2240307" swAng="-2918314"/>
                    <a:lnTo>
                      <a:pt x="9276" y="400"/>
                    </a:lnTo>
                    <a:arcTo wR="7785" hR="21600" stAng="-5641379" swAng="-5158621"/>
                    <a:close/>
                  </a:path>
                  <a:path fill="darkenLess" w="21600" h="21600">
                    <a:moveTo>
                      <a:pt x="0" y="21600"/>
                    </a:moveTo>
                    <a:arcTo wR="7785" hR="21600" stAng="10800000" swAng="5400000"/>
                    <a:lnTo>
                      <a:pt x="7785" y="0"/>
                    </a:lnTo>
                    <a:arcTo wR="7785" hR="21600" stAng="-5400000" swAng="241379"/>
                    <a:lnTo>
                      <a:pt x="9276" y="400"/>
                    </a:lnTo>
                    <a:arcTo wR="7785" hR="21600" stAng="-5641379" swAng="-5158621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37"/>
              <p:cNvSpPr/>
              <p:nvPr/>
            </p:nvSpPr>
            <p:spPr>
              <a:xfrm>
                <a:off x="273240" y="3015720"/>
                <a:ext cx="2210040" cy="128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onable Knowled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ituation Analysi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-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rrent and projected food security and nutrition condi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rvention Analysi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-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advice on most effective, efficient, and sustainable interven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12600" y="4059000"/>
            <a:ext cx="2674440" cy="2251080"/>
            <a:chOff x="-12600" y="4059000"/>
            <a:chExt cx="2674440" cy="2251080"/>
          </a:xfrm>
        </p:grpSpPr>
        <p:grpSp>
          <p:nvGrpSpPr>
            <p:cNvPr id="60" name="Group 18"/>
            <p:cNvGrpSpPr/>
            <p:nvPr/>
          </p:nvGrpSpPr>
          <p:grpSpPr>
            <a:xfrm>
              <a:off x="-12600" y="4059000"/>
              <a:ext cx="2674440" cy="2251080"/>
              <a:chOff x="-12600" y="4059000"/>
              <a:chExt cx="2674440" cy="2251080"/>
            </a:xfrm>
          </p:grpSpPr>
          <p:sp>
            <p:nvSpPr>
              <p:cNvPr id="61" name="Text Box 21"/>
              <p:cNvSpPr/>
              <p:nvPr/>
            </p:nvSpPr>
            <p:spPr>
              <a:xfrm>
                <a:off x="172080" y="5144040"/>
                <a:ext cx="2489760" cy="11660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grated Analysis of Food Access, Availability, Utilization, and Stabil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oss-Secto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Agenc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Temporal (immediate, medium, and long-term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Scale (HH—Village--District--Nation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 flipV="1">
                <a:off x="1381320" y="4293720"/>
                <a:ext cx="5400" cy="80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19"/>
              <p:cNvSpPr/>
              <p:nvPr/>
            </p:nvSpPr>
            <p:spPr>
              <a:xfrm flipH="1" rot="16746000">
                <a:off x="-255960" y="4418640"/>
                <a:ext cx="1129680" cy="470520"/>
              </a:xfrm>
              <a:custGeom>
                <a:avLst/>
                <a:gdLst>
                  <a:gd name="textAreaLeft" fmla="*/ 205560 w 1129680"/>
                  <a:gd name="textAreaRight" fmla="*/ 758160 w 1129680"/>
                  <a:gd name="textAreaTop" fmla="*/ 63000 h 470520"/>
                  <a:gd name="textAreaBottom" fmla="*/ 40752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212641"/>
                    <a:lnTo>
                      <a:pt x="21331" y="15998"/>
                    </a:lnTo>
                    <a:lnTo>
                      <a:pt x="17060" y="21600"/>
                    </a:lnTo>
                    <a:lnTo>
                      <a:pt x="12251" y="15998"/>
                    </a:lnTo>
                    <a:lnTo>
                      <a:pt x="15434" y="15998"/>
                    </a:lnTo>
                    <a:arcTo wR="7852" hR="21600" stAng="-2187359" swAng="-2993665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17"/>
            <p:cNvSpPr/>
            <p:nvPr/>
          </p:nvSpPr>
          <p:spPr>
            <a:xfrm>
              <a:off x="33480" y="4420800"/>
              <a:ext cx="8863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63"/>
          <p:cNvGrpSpPr/>
          <p:nvPr/>
        </p:nvGrpSpPr>
        <p:grpSpPr>
          <a:xfrm>
            <a:off x="7456320" y="1846440"/>
            <a:ext cx="1710000" cy="2973240"/>
            <a:chOff x="7456320" y="1846440"/>
            <a:chExt cx="1710000" cy="2973240"/>
          </a:xfrm>
        </p:grpSpPr>
        <p:grpSp>
          <p:nvGrpSpPr>
            <p:cNvPr id="66" name="Group 32"/>
            <p:cNvGrpSpPr/>
            <p:nvPr/>
          </p:nvGrpSpPr>
          <p:grpSpPr>
            <a:xfrm>
              <a:off x="7577280" y="1846440"/>
              <a:ext cx="1479240" cy="2973240"/>
              <a:chOff x="7577280" y="1846440"/>
              <a:chExt cx="1479240" cy="2973240"/>
            </a:xfrm>
          </p:grpSpPr>
          <p:sp>
            <p:nvSpPr>
              <p:cNvPr id="67" name="Rectangle 34"/>
              <p:cNvSpPr/>
              <p:nvPr/>
            </p:nvSpPr>
            <p:spPr>
              <a:xfrm>
                <a:off x="7577280" y="1846440"/>
                <a:ext cx="1479240" cy="2973240"/>
              </a:xfrm>
              <a:prstGeom prst="rect">
                <a:avLst/>
              </a:prstGeom>
              <a:solidFill>
                <a:srgbClr val="008000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33"/>
              <p:cNvSpPr/>
              <p:nvPr/>
            </p:nvSpPr>
            <p:spPr>
              <a:xfrm>
                <a:off x="7733160" y="3000600"/>
                <a:ext cx="1274760" cy="1252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roved Food Security for all Tanzanians through adequate and stable access, availability, and utilization of nutritious foo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45"/>
            <p:cNvSpPr/>
            <p:nvPr/>
          </p:nvSpPr>
          <p:spPr>
            <a:xfrm>
              <a:off x="7456320" y="2021040"/>
              <a:ext cx="17100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al: Food and Nutrition 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47"/>
          <p:cNvSpPr/>
          <p:nvPr/>
        </p:nvSpPr>
        <p:spPr>
          <a:xfrm>
            <a:off x="-205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2"/>
          <p:cNvSpPr/>
          <p:nvPr/>
        </p:nvSpPr>
        <p:spPr>
          <a:xfrm>
            <a:off x="-20520" y="674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2"/>
          <p:cNvGrpSpPr/>
          <p:nvPr/>
        </p:nvGrpSpPr>
        <p:grpSpPr>
          <a:xfrm>
            <a:off x="5711760" y="1566000"/>
            <a:ext cx="2838960" cy="3825000"/>
            <a:chOff x="5711760" y="1566000"/>
            <a:chExt cx="2838960" cy="3825000"/>
          </a:xfrm>
        </p:grpSpPr>
        <p:grpSp>
          <p:nvGrpSpPr>
            <p:cNvPr id="73" name="Group 24"/>
            <p:cNvGrpSpPr/>
            <p:nvPr/>
          </p:nvGrpSpPr>
          <p:grpSpPr>
            <a:xfrm>
              <a:off x="5711760" y="1566000"/>
              <a:ext cx="2838960" cy="3825000"/>
              <a:chOff x="5711760" y="1566000"/>
              <a:chExt cx="2838960" cy="3825000"/>
            </a:xfrm>
          </p:grpSpPr>
          <p:sp>
            <p:nvSpPr>
              <p:cNvPr id="74" name="Rectangle 31"/>
              <p:cNvSpPr/>
              <p:nvPr/>
            </p:nvSpPr>
            <p:spPr>
              <a:xfrm>
                <a:off x="5711760" y="1846800"/>
                <a:ext cx="1828800" cy="35442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30"/>
              <p:cNvSpPr/>
              <p:nvPr/>
            </p:nvSpPr>
            <p:spPr>
              <a:xfrm>
                <a:off x="5877360" y="2925360"/>
                <a:ext cx="1486080" cy="828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creased/Diversified    Produc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ree market exchan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urchasing Pow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H Care Pract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9"/>
              <p:cNvSpPr/>
              <p:nvPr/>
            </p:nvSpPr>
            <p:spPr>
              <a:xfrm>
                <a:off x="5892480" y="1997280"/>
                <a:ext cx="137160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abling Environment and Effective Interven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8"/>
              <p:cNvSpPr/>
              <p:nvPr/>
            </p:nvSpPr>
            <p:spPr>
              <a:xfrm flipV="1">
                <a:off x="7444800" y="3796200"/>
                <a:ext cx="306720" cy="40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7"/>
              <p:cNvSpPr/>
              <p:nvPr/>
            </p:nvSpPr>
            <p:spPr>
              <a:xfrm>
                <a:off x="7361640" y="3135960"/>
                <a:ext cx="389880" cy="31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26"/>
              <p:cNvSpPr/>
              <p:nvPr/>
            </p:nvSpPr>
            <p:spPr>
              <a:xfrm flipH="1" rot="21587400">
                <a:off x="6418080" y="1569600"/>
                <a:ext cx="2131200" cy="471240"/>
              </a:xfrm>
              <a:custGeom>
                <a:avLst/>
                <a:gdLst>
                  <a:gd name="textAreaLeft" fmla="*/ 387360 w 2131200"/>
                  <a:gd name="textAreaRight" fmla="*/ 1429920 w 2131200"/>
                  <a:gd name="textAreaTop" fmla="*/ 63000 h 471240"/>
                  <a:gd name="textAreaBottom" fmla="*/ 408240 h 47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173884"/>
                    <a:lnTo>
                      <a:pt x="21319" y="15874"/>
                    </a:lnTo>
                    <a:lnTo>
                      <a:pt x="17060" y="21600"/>
                    </a:lnTo>
                    <a:lnTo>
                      <a:pt x="12239" y="15874"/>
                    </a:lnTo>
                    <a:lnTo>
                      <a:pt x="15422" y="15874"/>
                    </a:lnTo>
                    <a:arcTo wR="7852" hR="21600" stAng="-2226116" swAng="-2954907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5"/>
              <p:cNvSpPr/>
              <p:nvPr/>
            </p:nvSpPr>
            <p:spPr>
              <a:xfrm>
                <a:off x="5873400" y="3921120"/>
                <a:ext cx="1613160" cy="685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olicy Implement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Plann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ment Program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mergency Respon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23"/>
            <p:cNvSpPr/>
            <p:nvPr/>
          </p:nvSpPr>
          <p:spPr>
            <a:xfrm>
              <a:off x="7216200" y="1581120"/>
              <a:ext cx="8863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927520" y="1529640"/>
            <a:ext cx="3366000" cy="4437360"/>
            <a:chOff x="2927520" y="1529640"/>
            <a:chExt cx="3366000" cy="4437360"/>
          </a:xfrm>
        </p:grpSpPr>
        <p:sp>
          <p:nvSpPr>
            <p:cNvPr id="83" name="Text Box 15"/>
            <p:cNvSpPr/>
            <p:nvPr/>
          </p:nvSpPr>
          <p:spPr>
            <a:xfrm>
              <a:off x="4955040" y="1563120"/>
              <a:ext cx="8863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7"/>
            <p:cNvGrpSpPr/>
            <p:nvPr/>
          </p:nvGrpSpPr>
          <p:grpSpPr>
            <a:xfrm>
              <a:off x="2927520" y="1529640"/>
              <a:ext cx="3366000" cy="4437360"/>
              <a:chOff x="2927520" y="1529640"/>
              <a:chExt cx="3366000" cy="4437360"/>
            </a:xfrm>
          </p:grpSpPr>
          <p:sp>
            <p:nvSpPr>
              <p:cNvPr id="85" name="Rectangle 14"/>
              <p:cNvSpPr/>
              <p:nvPr/>
            </p:nvSpPr>
            <p:spPr>
              <a:xfrm>
                <a:off x="2927520" y="1846440"/>
                <a:ext cx="2751840" cy="4120560"/>
              </a:xfrm>
              <a:prstGeom prst="rect">
                <a:avLst/>
              </a:prstGeom>
              <a:solidFill>
                <a:srgbClr val="008000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3"/>
              <p:cNvSpPr/>
              <p:nvPr/>
            </p:nvSpPr>
            <p:spPr>
              <a:xfrm>
                <a:off x="3657600" y="2819520"/>
                <a:ext cx="1371600" cy="914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vate Sec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duc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ivil Society/ NGO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ousehold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2"/>
              <p:cNvSpPr/>
              <p:nvPr/>
            </p:nvSpPr>
            <p:spPr>
              <a:xfrm>
                <a:off x="3606840" y="2057400"/>
                <a:ext cx="1485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Decision Mak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5009040" y="3223800"/>
                <a:ext cx="85824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5528880" y="4122720"/>
                <a:ext cx="3427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9"/>
              <p:cNvSpPr/>
              <p:nvPr/>
            </p:nvSpPr>
            <p:spPr>
              <a:xfrm>
                <a:off x="3294360" y="3885480"/>
                <a:ext cx="2228760" cy="1738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overnment of Tanzan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nd Development Partn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gricultural Sector Lead Ministri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SDP Food Security Task For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nzania Disaster Relief Executive Committe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gional Administrations and Local Government Authoriti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ment Partners--UNDA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 rot="21587400">
                <a:off x="4161600" y="1533240"/>
                <a:ext cx="2130840" cy="491400"/>
              </a:xfrm>
              <a:custGeom>
                <a:avLst/>
                <a:gdLst>
                  <a:gd name="textAreaLeft" fmla="*/ 386640 w 2130840"/>
                  <a:gd name="textAreaRight" fmla="*/ 1429200 w 2130840"/>
                  <a:gd name="textAreaTop" fmla="*/ 65880 h 491400"/>
                  <a:gd name="textAreaBottom" fmla="*/ 425520 h 49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173884"/>
                    <a:lnTo>
                      <a:pt x="21319" y="15874"/>
                    </a:lnTo>
                    <a:lnTo>
                      <a:pt x="17060" y="21600"/>
                    </a:lnTo>
                    <a:lnTo>
                      <a:pt x="12239" y="15874"/>
                    </a:lnTo>
                    <a:lnTo>
                      <a:pt x="15422" y="15874"/>
                    </a:lnTo>
                    <a:arcTo wR="7852" hR="21600" stAng="-2226116" swAng="-2954907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-Based Decision Making Framewor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Rutachokozibwa</cp:lastModifiedBy>
  <dcterms:modified xsi:type="dcterms:W3CDTF">2011-09-05T08:22:31Z</dcterms:modified>
  <cp:revision>218</cp:revision>
  <dc:subject/>
  <dc:title>Slide 1</dc:title>
</cp:coreProperties>
</file>